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03E-B4F7-4F3E-AA43-1F479DC0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868536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57480"/>
            <a:ext cx="868536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3F65-6880-4B74-93E5-F41EEA16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9280" y="137952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5748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9280" y="395748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F267-D1F3-4BA4-AA81-7E843D35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2796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120" y="1379520"/>
            <a:ext cx="2796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000" y="1379520"/>
            <a:ext cx="2796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57480"/>
            <a:ext cx="2796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120" y="3957480"/>
            <a:ext cx="2796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000" y="3957480"/>
            <a:ext cx="2796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712-1DB3-4D6A-9E9C-F8FCB63B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4401-1248-4250-B672-076BDC1B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379520"/>
            <a:ext cx="868536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EC96-D423-40F6-A0C8-1EDF550B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868536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769A-7DD4-4450-9943-DC7BD37B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42382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379520"/>
            <a:ext cx="42382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BAF7-21C4-4195-971B-642E51B6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4314-BD08-4FEF-8A2B-FE96986C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4392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8AA9-7937-4F49-8A69-9E93698C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379520"/>
            <a:ext cx="42382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5748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DED7-E75C-4DA1-9AB2-AF2F5ADF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9520"/>
            <a:ext cx="868536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F88-7AAE-4021-B2FB-09069568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42382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37952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9280" y="395748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209B-DC8C-4001-9234-113CC759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9280" y="137952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57480"/>
            <a:ext cx="868536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6308-141C-4993-AF74-B6CF492F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868536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57480"/>
            <a:ext cx="868536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B6E7-8C50-4531-9216-EC4FEF1B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9280" y="137952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5748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9280" y="395748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BF20-565A-4169-803F-145725A5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2796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120" y="1379520"/>
            <a:ext cx="2796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000" y="1379520"/>
            <a:ext cx="2796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57480"/>
            <a:ext cx="2796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120" y="3957480"/>
            <a:ext cx="2796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000" y="3957480"/>
            <a:ext cx="2796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C5E2-2CA3-40B5-8AF0-52A2509C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868536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0E1-A018-4ECB-A7F9-28967745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42382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9280" y="1379520"/>
            <a:ext cx="42382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0DD2-2CDF-4018-9F24-3B6C2B4D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CEB-CD82-4408-948E-2963A2F8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4392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EF1C-3732-4FE9-A92E-43CA041B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379520"/>
            <a:ext cx="42382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5748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648B-01FE-421C-BFE0-A0AE1C78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42382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280" y="137952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9280" y="395748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581-9BD9-4F09-9C1A-EF8A42C5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9280" y="137952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57480"/>
            <a:ext cx="868536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29E6-9051-4B4E-9153-64C2F6A9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40" y="0"/>
            <a:ext cx="9140760" cy="1216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3240" y="0"/>
            <a:ext cx="9140760" cy="50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853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1371600" y="2927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lick to edit Master subtitle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2286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7/9/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7813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164CE-350F-4B3C-8AC4-F6F84E4E460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fld id="{50234A63-8A37-4657-BD02-80F4DD77241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" y="0"/>
            <a:ext cx="9140760" cy="1216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28600" y="1379520"/>
            <a:ext cx="868536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6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7/9/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3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A9124-34C0-48D3-923B-25A0914EBC9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fld id="{22C6FF52-7F79-44BE-9EAD-6B270A503C2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ng Island Creek Site M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370160"/>
            <a:ext cx="86868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06600" y="1263600"/>
            <a:ext cx="4343400" cy="54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ng Island Creek Site M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370160"/>
            <a:ext cx="86868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06600" y="1252440"/>
            <a:ext cx="4284720" cy="54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ng Island Creek Site M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370160"/>
            <a:ext cx="86868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06600" y="1263600"/>
            <a:ext cx="4130640" cy="53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ng Island Creek Site M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370160"/>
            <a:ext cx="86868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392200" y="1252440"/>
            <a:ext cx="4284720" cy="54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ng Island Creek Site M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370160"/>
            <a:ext cx="86868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32160" y="1263600"/>
            <a:ext cx="4284720" cy="54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ng Island Creek Site M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370160"/>
            <a:ext cx="86868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57280" y="1263600"/>
            <a:ext cx="4343400" cy="54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ng Island Creek Site M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370160"/>
            <a:ext cx="86868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95440" y="1263600"/>
            <a:ext cx="4284720" cy="549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